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70E2-6510-44FC-B758-868151EB0B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 and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A GCSE Science Double Award SPECIFICATION B: Co-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 and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A GCSE Science Double Award SPECIFICATION B: Co-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A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A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Material for 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Material for 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question is taken from a past GCS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function of these parts of a plan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question is taken from a past GCS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function of these parts of a plan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, Tissues and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imilar cells is call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afferent tissues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organs working together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 whol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, Tissues and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imilar cells is call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afferent tissues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organs working together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 whol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 are designed for 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shape means a lot of surface area exposed down the side for absorbing C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 are designed for 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shape means a lot of surface area exposed down the side for absorbing C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The sperm cell - designed to fertilise eg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The sperm cell - designed to fertilise eg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The cilia cell - designed to stop lung dam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s line all the air passages in your lu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tiny hairs, which filter the air as it blows throu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The cilia cell - designed to stop lung dam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s line all the air passages in your lu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tiny hairs, which filter the air as it blows throu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The ovum (egg) cell - designed to be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The ovum (egg) cell - designed to be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 hai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The root hair cell - designed for absorb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 hai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The root hair cell - designed for absorb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Your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contributes 26 2/3% towards your final GCSE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 of your final grade is an Coursework Investigati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Your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contributes 26 2/3% towards your final GCSE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 of your final grade is an Coursework Investigati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o packed with Haemoglobin that they have no room for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o packed with Haemoglobin that they have no room for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ngulfing the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oes not, however, work with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ngulfing the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oes not, however, work with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mark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mark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: [Y1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: Cel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: Transport across Bound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Cell Division (Year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8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9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1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3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4 Plan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5 Transport and Water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: [Y1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: Cel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: Transport across Bound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Cell Division (Year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8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9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1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3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4 Plan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5 Transport and Water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 [Y1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6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7 Genetics an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8 Controlling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9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0 Adoption and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1 Human impact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2 Energy and Nutrient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3 Nutrient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 [Y1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6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7 Genetics an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8 Controlling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9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0 Adoption and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1 Human impact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2 Energy and Nutrient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3 Nutrient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p the 7 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tart 10.1: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differences between plant and animals in terms of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functions of the different parts of plants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how this in a visual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: To understand the term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p the 7 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tart 10.1: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differences between plant and animals in terms of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functions of the different parts of plants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how this in a visual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: To understand the term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- the ability to move from one plac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– a chemical process that takes place in every livin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– the ability to respond to you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– turning food into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– getting rid of 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– producing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- becoming larger i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- the ability to move from one plac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– a chemical process that takes place in every livin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– the ability to respond to you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– turning food into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– getting rid of 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– producing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- becoming larger i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ARRANGE SO THEY ARE IN THE CORRECT COLO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ARRANGE SO THEY ARE IN THE CORRECT COLO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is made of cellulose – it strengthens and suppor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PLANT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is made of cellulose – it strengthens and suppor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PLANT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controls what goes in and out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where all the reactions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types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controls what goes in and out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where all the reactions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types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AEF9-87C9-4553-9122-5CD19926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307-0038-4B91-9EF8-6EB91BA3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EAD-AF57-4ADD-A1A3-79356F3D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DB2-42CA-441B-B827-476B1972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304-4E49-4A0A-9EA5-27A77C7B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625A-0529-44A6-B5C2-FAF5C07D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2F1D-F757-4A99-A734-B3AFC55B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B84-1033-402D-85C1-0CE37634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BFB-C234-4373-B887-1E607140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8C3-AED5-45CB-B8A8-6F14B03A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F251-D608-4FA0-94B1-8C548F71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955-26CB-4A4A-BC61-50162E6A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7F8E-67BA-46DE-AE74-BB05FFA08A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Life Processes and Living things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QA GCSE Science Double Award SPECIFICATION B: Co-ord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liver"/>
          <p:cNvPicPr/>
          <p:nvPr/>
        </p:nvPicPr>
        <p:blipFill>
          <a:blip r:embed="rId1"/>
          <a:stretch/>
        </p:blipFill>
        <p:spPr>
          <a:xfrm>
            <a:off x="468360" y="2637000"/>
            <a:ext cx="4464000" cy="2819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palisade"/>
          <p:cNvPicPr/>
          <p:nvPr/>
        </p:nvPicPr>
        <p:blipFill>
          <a:blip r:embed="rId2"/>
          <a:stretch/>
        </p:blipFill>
        <p:spPr>
          <a:xfrm>
            <a:off x="5005440" y="2228760"/>
            <a:ext cx="3887640" cy="3267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9"/>
          <p:cNvSpPr txBox="1"/>
          <p:nvPr/>
        </p:nvSpPr>
        <p:spPr>
          <a:xfrm>
            <a:off x="1547640" y="1844640"/>
            <a:ext cx="1638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NIAMAL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6732720" y="1052640"/>
            <a:ext cx="93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LA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dditional Material for 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9640" y="1916280"/>
            <a:ext cx="8064720" cy="327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HIGHER 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is question is taken from a past GCS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Give the function of these parts of a plant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loropl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ell w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acu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Cj02902490000[1]"/>
          <p:cNvPicPr/>
          <p:nvPr/>
        </p:nvPicPr>
        <p:blipFill>
          <a:blip r:embed="rId1"/>
          <a:stretch/>
        </p:blipFill>
        <p:spPr>
          <a:xfrm>
            <a:off x="6443640" y="4076640"/>
            <a:ext cx="2341440" cy="24465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ells, Tissues and Org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similar cells is calle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afferent tissues for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organs working together for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 a  whole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9640" y="4724280"/>
            <a:ext cx="8064720" cy="1595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Key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issue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 System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lisad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lisade Cells are designed for Phot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ll shape means a lot of surface area exposed down the side for absorbing C0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The sperm cell - designed to fertilise egg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ilia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) The cilia cell - designed to stop lung damag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ia cells line all the air passages in your lung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have tiny hairs, which filter the air as it blows through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gg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The ovum (egg) cell - designed to be fertilise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root hair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) The root hair cell - designed for absorbing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bout Your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ology contributes 26 2/3% towards your final GCSE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% of your final grade is an Coursework Investigati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so packed with Haemoglobin that they have no room for a 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engulfing the bac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does not, however, work with vir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3 mark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odules you will study: [Y10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: Cel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2: Transport across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3 Cell Division (Year 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4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5 Cir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6 Brea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7 Re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8 Nervou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9 Homeost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1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3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4 Plant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5 Transport and Water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odules you will study [Y11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6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7 Genetics and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8 Controlling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9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0 Adoption and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1 Human impact o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2 Energy and Nutrient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3 Nutrient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recap the 7 Lif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be able to start 10.1: Plant and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nderstand the differences between plant and animals in terms of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recall the functions of the different parts of plants and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be able to show this in a visual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: To understand the term </a:t>
            </a:r>
            <a:r>
              <a:rPr b="1" i="1" lang="en-GB" sz="3200" spc="-1" strike="noStrike" u="sng">
                <a:solidFill>
                  <a:srgbClr val="996633"/>
                </a:solidFill>
                <a:uFillTx/>
                <a:latin typeface="Comic Sans MS"/>
              </a:rPr>
              <a:t>Mitochond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f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vement- the ability to move from one place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piration – a chemical process that takes place in every living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sitivity – the ability to respond to you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trition – turning food into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cretion – getting rid of was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roduction – producing off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wth- becoming larger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Featur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95280" y="371628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788000" y="357336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468360" y="443700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788000" y="443700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11280" y="2924280"/>
            <a:ext cx="784836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nt Cell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nt and Animal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4859280" y="5373720"/>
            <a:ext cx="39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539640" y="537372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395280" y="6021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-ARRANGE SO THEY ARE IN THE CORRECT COLO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are the functions of the Cell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Wall is made of cellulose – it strengthens and supports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1476360" y="5877000"/>
            <a:ext cx="6114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is for PLANTS ONLY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hat are the functions of the c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Membrane controls what goes in and out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ytoplasm is where all the reactions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9640" y="5229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324000" y="5516640"/>
            <a:ext cx="85438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applies to BOTH types of Cell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6:49:11Z</dcterms:created>
  <dc:creator>Shaun</dc:creator>
  <dc:description/>
  <dc:language>en-US</dc:language>
  <cp:lastModifiedBy>LEGION2</cp:lastModifiedBy>
  <dcterms:modified xsi:type="dcterms:W3CDTF">2016-01-11T13:31:02Z</dcterms:modified>
  <cp:revision>10</cp:revision>
  <dc:subject/>
  <dc:title>Life Processes and Living things</dc:title>
</cp:coreProperties>
</file>